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2C74-B525-4DF2-BC7D-3B235CAC6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9B3F-DBE3-45EB-B3C7-71E2441E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6C0D-AAC6-4CD0-A436-10A5312B1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A726-7D02-4732-9E06-39761404E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FCE1-57FE-4B6D-A84A-4D6472A14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2A74-3D57-4060-8DE2-CE1D1BD6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D2B4-F60B-497E-B7B2-4C662A22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912F-C1F2-415A-9885-8F8269A6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6B88-5B2B-46B7-96FB-BD0B4B04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A6C7-955A-4977-A50E-496D0C51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5083-BCEA-4685-9AD8-CDF3CA3D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D00F-0609-4A4E-8E56-0863C354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DD86-3A78-48C4-82E1-572EC8B5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E31A1-84F7-4CD5-AE18-7C0F9CF8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BE69F-406E-47B2-B529-F045F5D6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3D12-47BB-4576-A46B-EE0369E37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7FA5-2784-435F-9503-92B1E8B2A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17C1-F9F0-4212-9868-17486006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4038-C67D-4F4C-A2E5-03B3632B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F10A-A36C-4099-922C-9BC763BD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ED9E-D0EF-4669-BF34-8037AD5C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9579-8A41-4D03-8020-4CF46B7E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1A96-E32B-44D9-A32C-4B032C2F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0F2B-C87D-4F96-B083-830632E6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4EA4-7CAD-49C9-8A4A-435805BD8AC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C462-7D4A-4F66-865B-B641404B50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articlesbase.com/weddings-articles/german-wedding-customs-4964513.html" TargetMode="External"/><Relationship Id="rId2" Type="http://schemas.openxmlformats.org/officeDocument/2006/relationships/hyperlink" Target="http://histclo.com/schun/country/ger/gar/sug-gar.html" TargetMode="External"/><Relationship Id="rId3" Type="http://schemas.openxmlformats.org/officeDocument/2006/relationships/hyperlink" Target="http://2.bp.blogspot.com/_FgtJs3AkVDA/SN6lJcHMvzI/AAAAAAAAA2g/C2IXtgN5gig/s400/DSCN2197.JPG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ulture and Traditions</a:t>
            </a:r>
            <a:br>
              <a:rPr sz="48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Dress Codes &amp; Uniforms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: Chelsea Gobour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our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buzzle.com/articles/traditional-german-clothing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expatica.com/de/life-in-germany/lifestyle/What-to-wear-to-a-wedding_17298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www.articlesbase.com/weddings-articles/german-wedding-customs-4964513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google.de/imgres?imgurl=http://brideorama.com/wp-content/plugins/jobber-import-articles/photos/106141-german-wedding-traditions.jpg&amp;imgrefurl=http://brideorama.com/german-wedding-traditions-2/&amp;usg=__3CVkjEloDdOUTdb_nj7B3KPErcU=&amp;h=324&amp;w=432&amp;sz=29&amp;hl=de&amp;start=5&amp;zoom=1&amp;tbnid=BL5U5Z22sgp-5M:&amp;tbnh=95&amp;tbnw=126&amp;ei=SfSSTpnsDYmDsgLHrviDAQ&amp;prev=/search%3Fq%3DGerman%2Bweddings%26um%3D1%26hl%3Dde%26safe%3Dactive%26sa%3DN%26tbm%3Disch&amp;um=1&amp;itbs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http://histclo.com/schun/country/ger/gar/sug-gar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http://2.bp.blogspot.com/_FgtJs3AkVDA/SN6lJcHMvzI/AAAAAAAAA2g/C2IXtgN5gig/s400/DSCN219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trachtenshop.de/images/categories/110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63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63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6300" spc="-1" strike="noStrike">
                <a:solidFill>
                  <a:srgbClr val="330033"/>
                </a:solidFill>
                <a:latin typeface="Times New Roman"/>
              </a:rPr>
              <a:t>Danke! </a:t>
            </a:r>
            <a:br>
              <a:rPr sz="6300"/>
            </a:br>
            <a:br>
              <a:rPr sz="6300"/>
            </a:br>
            <a:r>
              <a:rPr b="0" lang="en-US" sz="63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63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63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63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5700" spc="-1" strike="noStrike">
                <a:solidFill>
                  <a:srgbClr val="330033"/>
                </a:solidFill>
                <a:latin typeface="Wingdings"/>
                <a:ea typeface="Wingdings"/>
              </a:rPr>
              <a:t>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!! It’s Time To Dance !!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raditional Attire In German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60400" cy="1290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04920" y="3048120"/>
            <a:ext cx="2438280" cy="1827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52280" y="5029200"/>
            <a:ext cx="1828800" cy="1595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219320" y="1600200"/>
            <a:ext cx="79246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Dirnd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traditional dress worn by women in Southern German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Uniform for Austrian servant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3352680"/>
            <a:ext cx="6019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derhos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leather pa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n more in the Alpine are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5257800"/>
            <a:ext cx="69343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msb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tuft of hair that’s used as a decorative  element to ha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female clothing as wel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971800" y="1371600"/>
            <a:ext cx="320976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edding Attire In Germany &lt;3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y 1: “Night before wedding” is Stag. Everyone is dressed in an informal atti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y 2: “Civil Service” held at the court house. The bride wears a blouse and skir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y 3+ : The bride wears a white dress with either a short or omitted vei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des wear necklaces and or earrings to compliment their d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de has no engagement ring. A ring is given once officially marri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2" name="" descr="German Wedding (Source: sellekaerts.net)"/>
          <p:cNvPicPr/>
          <p:nvPr/>
        </p:nvPicPr>
        <p:blipFill>
          <a:blip r:embed="rId1"/>
          <a:stretch/>
        </p:blipFill>
        <p:spPr>
          <a:xfrm>
            <a:off x="1905120" y="198108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62120" y="60948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eben 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raditional School Attire In German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Males W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ilor suits or Lederhosen in some parts of Germa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nafo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ppy soft ha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ual shirts and swea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ford low-cut shoes or heavy boot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gym class: Knee pants with long stock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Females Wea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gym class: Middy blouses an bloomers with high stocking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ndl to school as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Quiz Ques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Lederhos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does the bride wear a blouse and ski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Quiz Answer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ther pants worn mostly by Alpine men in Germany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2 of the wedding. Also known as the “Civil Service”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0T13:28:43Z</dcterms:created>
  <dc:creator>SCSadmin</dc:creator>
  <dc:description/>
  <dc:language>en-US</dc:language>
  <cp:lastModifiedBy>SCSadmin</cp:lastModifiedBy>
  <dcterms:modified xsi:type="dcterms:W3CDTF">2011-10-25T13:35:59Z</dcterms:modified>
  <cp:revision>14</cp:revision>
  <dc:subject/>
  <dc:title>Culture and Traditions Dress Codes &amp; Uniforms</dc:title>
</cp:coreProperties>
</file>